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9FE-CE84-444E-80C5-7AFEE2BD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392C-81FE-4961-87BF-94FF58E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EED-EABB-4DEA-905F-835C5283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517-926F-4BFD-BF5D-347E432E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E1A3-CD40-44C0-8FD7-2F20212D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36E-BAD0-4F4C-9F86-C35CA1BA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177-54FD-42A7-8197-5223DD5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120-8BC7-42CB-AD65-81B2575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6E7-6925-4986-8410-06DF36D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0BFF-7D1F-4290-A8F5-0C857319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B74F-74EF-45A2-8D2E-458E068D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9278-A706-435A-B6C1-F1D41779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424B-C37E-4897-A418-A897A737F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06440"/>
            <a:ext cx="6400800" cy="8432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457200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29000" y="533520"/>
          <a:ext cx="29098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33520"/>
                    <a:ext cx="29098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2590920" y="6248520"/>
          <a:ext cx="3962160" cy="250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6248520"/>
                    <a:ext cx="3962160" cy="25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457200" y="533520"/>
            <a:ext cx="3276720" cy="990360"/>
          </a:xfrm>
          <a:prstGeom prst="wedgeRoundRectCallout">
            <a:avLst>
              <a:gd name="adj1" fmla="val 48208"/>
              <a:gd name="adj2" fmla="val 89263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ongiorn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e ti chiam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3048120"/>
            <a:ext cx="3124440" cy="990360"/>
          </a:xfrm>
          <a:prstGeom prst="wedgeRoundRectCallout">
            <a:avLst>
              <a:gd name="adj1" fmla="val 97611"/>
              <a:gd name="adj2" fmla="val -26120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ra!  E t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876920"/>
            <a:ext cx="5638680" cy="1295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iac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2T21:20:58Z</dcterms:created>
  <dc:creator>Preferred Customer</dc:creator>
  <dc:description/>
  <dc:language>en-US</dc:language>
  <cp:lastModifiedBy>Preferred Customer</cp:lastModifiedBy>
  <dcterms:modified xsi:type="dcterms:W3CDTF">2003-04-01T03:16:21Z</dcterms:modified>
  <cp:revision>5</cp:revision>
  <dc:subject/>
  <dc:title>No Slide Title</dc:title>
</cp:coreProperties>
</file>